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4FAC-5638-434C-84AC-797FC599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6562-C609-4BB3-AB8E-3C1164CB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F3C-B655-499B-BB77-86AE0AE7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9924-6EED-4439-BCD8-382AF20E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8142-AAD1-41BD-9427-EA21F8C5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B71A-C875-45E1-9126-FA222A21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4662-5D02-4F1C-84C6-1261AF65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248C-5592-46DD-95A7-20B4A2CB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A052-70E1-4C04-9AD5-54A59E21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9713-F072-4511-9046-650325FE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99AC-2FD2-4560-9DEB-C6100772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6AFC-809F-4B6C-B54C-FF01ADA6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131F-1707-4A84-8037-E4BCFAE7C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0200" y="5214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Krejzová Alice, Povolná Martina, Foglová Lu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délník 8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2776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délník 1" descr=""/>
          <p:cNvPicPr/>
          <p:nvPr/>
        </p:nvPicPr>
        <p:blipFill>
          <a:blip r:embed="rId1"/>
          <a:stretch/>
        </p:blipFill>
        <p:spPr>
          <a:xfrm>
            <a:off x="1279440" y="804960"/>
            <a:ext cx="6853320" cy="1152360"/>
          </a:xfrm>
          <a:prstGeom prst="rect">
            <a:avLst/>
          </a:prstGeom>
          <a:ln w="0">
            <a:noFill/>
          </a:ln>
        </p:spPr>
      </p:pic>
      <p:sp>
        <p:nvSpPr>
          <p:cNvPr id="78" name="TextovéPole 3"/>
          <p:cNvSpPr/>
          <p:nvPr/>
        </p:nvSpPr>
        <p:spPr>
          <a:xfrm>
            <a:off x="355680" y="3857760"/>
            <a:ext cx="805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jvýhodnější je půjčit pení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marádovi, přestože je to nejrizikovějš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C:\Documents and Settings\skola\Local Settings\Temporary Internet Files\Content.IE5\PUTQN72Y\MCj04241980000[1].wmf"/>
          <p:cNvPicPr/>
          <p:nvPr/>
        </p:nvPicPr>
        <p:blipFill>
          <a:blip r:embed="rId1"/>
          <a:stretch/>
        </p:blipFill>
        <p:spPr>
          <a:xfrm>
            <a:off x="214200" y="5000760"/>
            <a:ext cx="2152800" cy="1380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C:\Documents and Settings\skola\Local Settings\Temporary Internet Files\Content.IE5\NT2XGS1P\MCj04242180000[1].wmf"/>
          <p:cNvPicPr/>
          <p:nvPr/>
        </p:nvPicPr>
        <p:blipFill>
          <a:blip r:embed="rId2"/>
          <a:stretch/>
        </p:blipFill>
        <p:spPr>
          <a:xfrm>
            <a:off x="7072200" y="4857840"/>
            <a:ext cx="1860840" cy="15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délník 1" descr=""/>
          <p:cNvPicPr/>
          <p:nvPr/>
        </p:nvPicPr>
        <p:blipFill>
          <a:blip r:embed="rId1"/>
          <a:stretch/>
        </p:blipFill>
        <p:spPr>
          <a:xfrm>
            <a:off x="1566720" y="231840"/>
            <a:ext cx="5967720" cy="197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714240" y="2643120"/>
          <a:ext cx="7929720" cy="3457800"/>
        </p:xfrm>
        <a:graphic>
          <a:graphicData uri="http://schemas.openxmlformats.org/drawingml/2006/table">
            <a:tbl>
              <a:tblPr/>
              <a:tblGrid>
                <a:gridCol w="1163880"/>
                <a:gridCol w="1163520"/>
                <a:gridCol w="1289160"/>
                <a:gridCol w="1163520"/>
                <a:gridCol w="1163520"/>
                <a:gridCol w="992160"/>
                <a:gridCol w="993960"/>
              </a:tblGrid>
              <a:tr h="3564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 = 5 % p. 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= j</a:t>
                      </a:r>
                      <a:r>
                        <a:rPr b="1" lang="pl-PL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x p/100 x d/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16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000 x 5/100 x 360/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 = 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= 8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173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hod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z úroků j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50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výhod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námý nemusí splat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ní pojiště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oční úroky u jednotlivých produkt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399564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4143240"/>
          <a:ext cx="4608720" cy="1113120"/>
        </p:xfrm>
        <a:graphic>
          <a:graphicData uri="http://schemas.openxmlformats.org/drawingml/2006/table">
            <a:tbl>
              <a:tblPr/>
              <a:tblGrid>
                <a:gridCol w="2303640"/>
                <a:gridCol w="230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067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2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932360" y="414972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137,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63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62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ovnání ceny zřízení produkt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2999880"/>
            <a:ext cx="4039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4286160"/>
          <a:ext cx="4608720" cy="1112760"/>
        </p:xfrm>
        <a:graphic>
          <a:graphicData uri="http://schemas.openxmlformats.org/drawingml/2006/table">
            <a:tbl>
              <a:tblPr/>
              <a:tblGrid>
                <a:gridCol w="2301840"/>
                <a:gridCol w="2306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3280" y="3071880"/>
            <a:ext cx="4042080" cy="4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932360" y="429264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platky za vedení produktů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měsíčně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6760" y="26427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932360" y="429264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79280" y="4286160"/>
          <a:ext cx="4537080" cy="1112760"/>
        </p:xfrm>
        <a:graphic>
          <a:graphicData uri="http://schemas.openxmlformats.org/drawingml/2006/table">
            <a:tbl>
              <a:tblPr/>
              <a:tblGrid>
                <a:gridCol w="2268720"/>
                <a:gridCol w="2268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z. dalš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ěžné účty GE Money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ěsíční popla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Act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Activ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G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ěžný účet 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ěžný korunový úč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vede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ěsíční zasílání výpis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8760" y="264276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9280" y="4221000"/>
          <a:ext cx="4608720" cy="1113120"/>
        </p:xfrm>
        <a:graphic>
          <a:graphicData uri="http://schemas.openxmlformats.org/drawingml/2006/table">
            <a:tbl>
              <a:tblPr/>
              <a:tblGrid>
                <a:gridCol w="2303640"/>
                <a:gridCol w="230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z. dalš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932360" y="4221000"/>
          <a:ext cx="4041720" cy="110808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14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rušení produ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4149720"/>
          <a:ext cx="4572000" cy="1224000"/>
        </p:xfrm>
        <a:graphic>
          <a:graphicData uri="http://schemas.openxmlformats.org/drawingml/2006/table">
            <a:tbl>
              <a:tblPr/>
              <a:tblGrid>
                <a:gridCol w="2287800"/>
                <a:gridCol w="228420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1" name="Rectangle 41"/>
          <p:cNvSpPr/>
          <p:nvPr/>
        </p:nvSpPr>
        <p:spPr>
          <a:xfrm>
            <a:off x="971640" y="3068640"/>
            <a:ext cx="28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ástupný symbol pro text 4"/>
          <p:cNvSpPr/>
          <p:nvPr/>
        </p:nvSpPr>
        <p:spPr>
          <a:xfrm>
            <a:off x="4859280" y="28526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859280" y="4149720"/>
          <a:ext cx="4100400" cy="1224000"/>
        </p:xfrm>
        <a:graphic>
          <a:graphicData uri="http://schemas.openxmlformats.org/drawingml/2006/table">
            <a:tbl>
              <a:tblPr/>
              <a:tblGrid>
                <a:gridCol w="2051280"/>
                <a:gridCol w="204912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výhodnější produkt GE Money Bank je: TERMÍNOVANÝ V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eškeré služby jsou zd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rok p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.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Arial"/>
              </a:rPr>
              <a:t>4 067,25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výhodnější produkt České spořitelny je: VKLADOVÝ ÚČ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škeré služby jsou zd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Úrok p. a.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4 137,38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1:41:13Z</dcterms:created>
  <dc:creator>OA TGM a JŠ</dc:creator>
  <dc:description/>
  <dc:language>en-US</dc:language>
  <cp:lastModifiedBy>OEM</cp:lastModifiedBy>
  <dcterms:modified xsi:type="dcterms:W3CDTF">2008-08-10T21:06:05Z</dcterms:modified>
  <cp:revision>12</cp:revision>
  <dc:subject/>
  <dc:title>Úroky u jednotlivých produktů</dc:title>
</cp:coreProperties>
</file>